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2E15-5101-4903-B50A-08605EE7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926A-E63F-49AC-8745-7BCCDDF4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2CEC-3E78-4F27-9145-3106D76F9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9D4E-EF02-48FB-9F24-3480186B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9768-BF13-4768-8C14-B013E7FC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B97A-B92A-4174-8AE5-6B9F91CC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7E5B-7763-4A13-8F37-05A25C9A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4308-5C37-447A-9AEE-DB636BEF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3949-1ACB-4BFB-B8B9-7447A6B6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7446-F9C3-4AF5-BA2E-77588259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EBD2-BC60-4C5A-AD43-D6F2BC56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72D8-3A86-4015-A81F-F4562C70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FD2F-0F51-46F6-85D8-36F94731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5847-3757-4393-B701-1A3410AF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E26A-842B-445F-A74F-9045ED23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0755-F12D-4FCC-9968-EEDA3131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4F06-14DC-451A-9901-69889C826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61E1A-59C9-43F2-98FF-E4C688E5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B8FEE-539B-4458-AF18-F40583BB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B95CC-5F26-4BC3-8532-19D69EDC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000CB-6CA2-48F9-B8C1-68167B8E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372A8-5E34-4A82-9633-E2937ADE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B446-495F-4F3A-9E4F-E2D70FF9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96CA8-9A9C-46D0-A1E7-44D3DE94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F6A15-E2FD-43F5-811C-030CAF48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4EA96-7DD1-4141-A65D-C38F31D0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1D60C-0682-4508-9D04-960BA785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A5DB6-5767-41AA-9C3C-779136A6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93E98-4E0B-42B3-8E93-72FC12E5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074F0-6052-4520-AF83-6E48B8EC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44847-B6C4-49EF-B012-1B6BA7AE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43D4A-D1E8-4064-AC64-1D87579B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009F1-BB50-4A4F-BE0F-DA55F14D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934A-B401-4D19-B6EC-F723FF29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F8F4F-9E1A-4666-9302-4C17907A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52C37-01B5-47E7-8FE5-E8DDDB90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D8817-131A-45C9-867F-D64535EF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01DC5-A512-4B5B-B86A-B78EE08B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C1586-78CF-4C37-8A56-148943F7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785A6-F4D0-4825-9B52-92DDADDB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D6793-69A9-4589-A1A4-9747FC02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6EC8E-DE8C-4B27-9D19-03FB587C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66D33-6EA0-4CE9-996A-8AEE10B3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AC320-01A6-4B7B-A70A-DC98C3C3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1CEE-FA46-4BD2-8B19-B67415A2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517C3-FDAB-4BD2-A474-DAF53E70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93047-E47A-44B2-BF23-3A76ED1B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F964D-E300-487B-9FF0-6C863C51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A69F0-C32E-436A-B38E-B88B4D90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82A92-6F85-41E5-94E3-F2CC14BC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B9975-0C83-48B1-9B0A-A1A9CD9C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363C9-F8A5-46CA-80F4-950C142D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81C61-CB1F-49B5-9CD0-0DD50406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B5B76-610E-4616-A059-24EA5D47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DE012-4035-4B29-BC4C-49C45E5CC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31B7-1FA1-4F67-9266-8E66DFAE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A2C8E-5554-40B6-8553-D2DEE55B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29181-258B-4BC6-80C9-170F4EEC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50447-9CCD-407A-8B25-1438B363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D0C9F-A558-46FD-87E4-6B2C17BE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4451A-44E4-45F3-A1DB-BA946E67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889EB-07DD-4472-8F70-D00D3D5B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8DD51-A3AB-401F-9826-E488E883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C6D63-572F-422E-AC1C-EBA60467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66C57-3E4C-4F91-87BE-F73604B8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86330-1AD0-4787-8C3A-B003F20F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784C-04CD-4A38-9BD9-C1BABDA3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8E7AB-2727-4B97-9567-A9AC2B5D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4DAEF-6AE5-44B5-8DF9-698B04E6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1BF79-9F37-4028-A077-957F33F3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07A6-CDE5-46BC-BBCF-42D626B6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78BB-E5C3-405F-A54E-EA9BDDF3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4198-85A9-445F-8B19-ABB6C1A98B6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4B23-0799-4B7E-BB1D-42374A5C267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8E9C-6444-424E-97E6-DDB11BE473D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6E82-47A9-4A69-934A-573C83F7DDE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E007-C605-41C5-9851-FD1A61206C6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F359-EE1B-4C1A-9086-DCD86AE70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redit Valley"/>
              </a:rPr>
              <a:t>Karla Crist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redit Valley"/>
              </a:rPr>
              <a:t>Brett Grays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redit Valley"/>
              </a:rPr>
              <a:t>Rosalinda Ramirez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redit Valley"/>
              </a:rPr>
              <a:t>Rachel Sanchez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redit Valley"/>
                <a:ea typeface="Meiryo"/>
              </a:rPr>
              <a:t>Classroom Managemen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redit Valley"/>
                <a:ea typeface="Meiryo"/>
              </a:rPr>
              <a:t>with ES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Key to a Great Cla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se consistent, explicit instructions and praise any attempts to communica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peak clearly using the normal rhythm and patterns of English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se repetition and non-verbal suppor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bserve and interact to ascertain how much the student understand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low students time to tune into English – they will understand more English than they can articula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04560" y="129528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odel correct structure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Focus on the script if the student is not used to the Roman alphabet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Promote links between the school and home – this can be of great benefit to students, particularly if they are geographically or ethnically isolated or if there is only one ESL student at the school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8" name="Title 1"/>
          <p:cNvSpPr/>
          <p:nvPr/>
        </p:nvSpPr>
        <p:spPr>
          <a:xfrm>
            <a:off x="914400" y="76320"/>
            <a:ext cx="7772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Key to a Great Clas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048120" y="41911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75960" y="17521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 all know students who are interested in the lesson rarely interrup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o how can you organize your lesson plans to improve the management situ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What’s the relationship betwee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lassro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Management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&amp; Clas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Organization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216320" y="1600200"/>
            <a:ext cx="4913280" cy="5257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09120" y="28195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eacher speaks most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tudents expect the teacher to lead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eachers constantly pass judgment on student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s strategy may work but it’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exhau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The Old Way” – Teacher-domin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381560" cy="21906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tudents work individually or in pairs/smal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ybe even on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istinct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asks and projec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achers relieved of the necessity of constant super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ents feel a personal sense of relevance and achiev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The New Way” – Learner-center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334120" y="2895480"/>
            <a:ext cx="2895480" cy="2167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386000" y="2876400"/>
            <a:ext cx="3262320" cy="2152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228240" y="15235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tudents pay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ttention and learn better from one another when their performances and processes of negotiation of meaning ar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re closely adapted to one another’s level of abilit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udent-driven activities ar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preferable for every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432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roup work is especially effective because ELL-students’ are often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sitant to speak in large setting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why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should teachers use “The New Way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905200" y="2781360"/>
            <a:ext cx="3333600" cy="209556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01:54:47Z</dcterms:created>
  <dc:creator>Rachel Sanchez</dc:creator>
  <dc:description/>
  <dc:language>en-US</dc:language>
  <cp:lastModifiedBy>Irving ISD</cp:lastModifiedBy>
  <dcterms:modified xsi:type="dcterms:W3CDTF">2009-04-14T18:22:38Z</dcterms:modified>
  <cp:revision>19</cp:revision>
  <dc:subject/>
  <dc:title>Classroom Management with ESL</dc:title>
</cp:coreProperties>
</file>